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78A76-C227-4572-BF47-E01D29D281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5BAC6-5CFF-4A9C-8456-94E6C86E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55998-A571-4F9B-B8CD-56EBD503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9E03D-1251-418A-B106-296BBA1FD4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6F1CB-C23C-4573-8E9C-AC253136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6091C-D895-40AE-A223-D64FF15A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47A12-88ED-48D6-9A63-3D6B7649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6C450-4B18-45AD-85B3-C75B5A820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54E75-2B3C-4B26-811C-0C85B0737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8383E-9101-45A5-9DF5-9CD35A14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F12D8-DD3F-4C27-9700-C61957DD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7DDE1-11BB-45F3-86F6-14F856F6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BB22-3384-4037-81AF-3AF1D9069F1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妇科病史及检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天津中医药大学护理学院  高擎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双合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785880" y="2254320"/>
            <a:ext cx="760248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合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050920" y="1879560"/>
            <a:ext cx="452124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直肠－腹部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1"/>
          <a:stretch/>
        </p:blipFill>
        <p:spPr>
          <a:xfrm>
            <a:off x="2195640" y="2214720"/>
            <a:ext cx="471492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心理社会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自我健康感知及医院环境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自我概念形态及应激耐受形态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价值信念形态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程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de6fd"/>
                </a:solidFill>
                <a:latin typeface="Verdana"/>
              </a:rPr>
              <a:t>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主要护理诊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合作性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陈述常用妇科检查的目的，方法及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区分妇科疾病的常见体征及鉴别诊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解释妇科患者的采集病史，体格检查及心理－社会状态评估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用护理程序为妇科疾病患者提供护理服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病史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病史采集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系统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交谈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体格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查阅记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史采集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2050920"/>
          <a:ext cx="9109080" cy="4403880"/>
        </p:xfrm>
        <a:graphic>
          <a:graphicData uri="http://schemas.openxmlformats.org/drawingml/2006/table">
            <a:tbl>
              <a:tblPr/>
              <a:tblGrid>
                <a:gridCol w="1643040"/>
                <a:gridCol w="7466040"/>
              </a:tblGrid>
              <a:tr h="3463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项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内容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158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一般项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姓名、年龄、婚姻、籍贯、职业、民族、教育程度、宗教信仰、家庭住址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入院的主要问题、主要症状、出现的时间和病人的应对方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001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现病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围绕主诉了解发病的时间、发病的原因及可能的诱因、病情发展经过、就医经过、采取的护理措施及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经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询问初潮年龄、月经周期、经期持续时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590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婚育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结婚年龄、婚次、男方健康情况、是否近亲结婚、同居情况、双方性功能、性病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生育情况包括足月产、早产、流产次数以及现存子女数：足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早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存；孕</a:t>
                      </a:r>
                      <a:r>
                        <a:rPr b="1" lang="zh-CN" sz="16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×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产</a:t>
                      </a:r>
                      <a:r>
                        <a:rPr b="1" lang="zh-CN" sz="16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既往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既往健康状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986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人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的生活和居住情况、出生地和曾居住地区、个人特殊嗜好、自理程度、生活方式、睡眠、饮食、营养、卫生习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家族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的家庭成员包括父母、兄弟、姊妹及子女的健康状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全身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腹部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盆腔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腹部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视诊：形状、有无水肿、瘢痕、妊娠纹、腹壁疝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触诊：腹壁厚度，肝脾肾及腹部压痛，有无包块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叩诊：鼓音、浊音分布范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听诊：肠鸣音，胎心听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盆腔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外阴部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阴道窥器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双合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三合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直肠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—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腹部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矩形 5"/>
          <p:cNvSpPr/>
          <p:nvPr/>
        </p:nvSpPr>
        <p:spPr>
          <a:xfrm>
            <a:off x="5076720" y="5373720"/>
            <a:ext cx="142920" cy="21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外阴部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00360" y="2205000"/>
            <a:ext cx="416880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阴道窥器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807876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8:47:4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